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6AC-9417-4864-AF4A-2084A047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B29-4D53-4E33-A21E-AEECCBFE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2CB-B724-4298-A103-6354C62B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6C2-A39C-4029-A55F-0C66B3ED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663-9C3B-4C46-AA90-6B0DD020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14D-B9D3-4F53-834B-1EFF885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416-2165-4040-BC4E-FEAA663D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F2E-1E06-4286-BB9D-EF21F8BF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E84-E049-4BC2-BD6B-622553A1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E8D-B2C3-4B59-9597-40610D21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360-20A8-4638-A2EC-3D06B87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E7A-3F4A-472B-8772-332E62D3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1BCF-EF77-4FB5-B4C6-740C208DD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7.xml"/><Relationship Id="rId27" Type="http://schemas.openxmlformats.org/officeDocument/2006/relationships/slide" Target="slide59.xml"/><Relationship Id="rId28" Type="http://schemas.openxmlformats.org/officeDocument/2006/relationships/slide" Target="slide59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lished slaver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23880" y="2057400"/>
            <a:ext cx="5943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3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1143000"/>
            <a:ext cx="75438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 prev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mposing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cessive bail or fin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14400" y="1295280"/>
            <a:ext cx="73152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arantees the right to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edy and public tri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6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8080" y="1219320"/>
            <a:ext cx="75438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 forbi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to deprive lif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berty, or property wit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e process of law?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523880" y="2057400"/>
            <a:ext cx="5943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19320" y="182880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rong agains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cie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22096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2209680"/>
            <a:ext cx="5257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rong agains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905120" y="259092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 based o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rrent standards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stoms of the peo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752480" y="1828800"/>
            <a:ext cx="5486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ower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ide a c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5120" y="22096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risdi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66680" y="1828800"/>
            <a:ext cx="7315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octrine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s lower cou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ollow establish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se law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52480" y="182880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i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676520" y="2209680"/>
            <a:ext cx="57909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cann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gra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o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28800" y="22096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ws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43000" y="1828800"/>
            <a:ext cx="71629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l nam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nternet system.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371600" y="2438280"/>
            <a:ext cx="6477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PA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1523880"/>
            <a:ext cx="71629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siness t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ucted electronic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47920" y="1523880"/>
            <a:ext cx="6172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-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133720"/>
            <a:ext cx="7467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actice of send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-requested bulk e-mailing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05120" y="2133720"/>
            <a:ext cx="52578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amm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43000" y="1523880"/>
            <a:ext cx="6705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e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ld Wide We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47920" y="2362320"/>
            <a:ext cx="6248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 Berners Le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95280" y="1676520"/>
            <a:ext cx="67820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of first t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endments of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tit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66680" y="19810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ll of Righ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1676520"/>
            <a:ext cx="7543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cument that loosely establish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rst central govern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ting the thirteen stat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438280" y="1676520"/>
            <a:ext cx="4038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ticl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er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680" y="1676520"/>
            <a:ext cx="73915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cument listing Americ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onists’ reasons for wan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ce from England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600200" y="1676520"/>
            <a:ext cx="5791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laratio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14400" y="1676520"/>
            <a:ext cx="7543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rce where feder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v has exclusive rights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fects trade betwe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and foreign comme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438280" y="1676520"/>
            <a:ext cx="4038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st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8080" y="1676520"/>
            <a:ext cx="7620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rce where states reta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hority to regulate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e within state’s b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438280" y="1676520"/>
            <a:ext cx="4038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ast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kind of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rs disputes fir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66680" y="1295280"/>
            <a:ext cx="72392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g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828800" y="2057400"/>
            <a:ext cx="54100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66680" y="1447920"/>
            <a:ext cx="69343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type of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y review the dec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lower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828800" y="2133720"/>
            <a:ext cx="54100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ea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14400" y="1752480"/>
            <a:ext cx="74674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term me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ing a dispute to 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828800" y="24382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tig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1981080"/>
            <a:ext cx="76201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type of jurisdi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 trial court would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828800" y="2209680"/>
            <a:ext cx="54100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62120" y="1752480"/>
            <a:ext cx="76197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the two (2) 3rd par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cilitators who can resol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putes before going to cour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diat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bitra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680" y="1219320"/>
            <a:ext cx="73152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d of court that he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ses involving you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ople under the age of 1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ste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905120" y="160020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ven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14400" y="137160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d of court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ndles cases involv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,500 or l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160020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 Clai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ircuit court that hea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or criminal case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suits that invol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 more than $25,0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oci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kin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 administ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ty ordina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5120" y="1600200"/>
            <a:ext cx="5257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ncip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14400" y="1600200"/>
            <a:ext cx="76201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kind of cou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ministers will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ates when someone dies?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05120" y="1752480"/>
            <a:ext cx="5257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8080" y="1295280"/>
            <a:ext cx="7467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 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2120" y="3124080"/>
            <a:ext cx="7467480" cy="29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Rights/Benefits entitled to a person by law 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&amp;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Personal and natural rights guaranteed to U.S. citizen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137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aliz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1523880"/>
            <a:ext cx="723888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gal Righ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ivil Righ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8088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mendm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tro 2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w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w'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ckgrou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r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ste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pecializ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r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6477120"/>
            <a:ext cx="30456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1523880"/>
            <a:ext cx="71625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amend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arantees U.S. citize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edom of speech?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essica Spangenberg</cp:lastModifiedBy>
  <dcterms:modified xsi:type="dcterms:W3CDTF">2009-10-22T23:55:38Z</dcterms:modified>
  <cp:revision>54</cp:revision>
  <dc:subject/>
  <dc:title>No Slide Title</dc:title>
</cp:coreProperties>
</file>